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F85-F5D8-44DD-B1A7-5548567F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E7F-A844-4463-906B-F2E9D7E1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108-4F51-4A23-BA4C-B071A63B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F3E-2726-4A77-8FE9-DFC52967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D2E4-8B04-4FF6-94C4-49C2D0FF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34E8-C4EB-481A-9FA9-DECC0ED5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F71B-0B4A-4A8B-A34E-49493344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6458-3C1A-4CC8-BC5D-02920151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EB97-BCB2-4EAC-83FE-0460D0BB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D41B-EA3A-4389-B030-9AFB38D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81CB-B6C2-479E-999C-22A65F91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8B6-3048-40DB-A883-E8AEE340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F937-1905-4489-A80C-21EB501D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324E-1AD5-4EC1-8AB6-3D543231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DA75-C880-45C9-AA6F-9AD92077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753C-DAFA-45E6-BC9C-FD3BF46E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D705-F4C3-4D9E-BB21-76F27373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46F-61C0-407D-9979-F9E3CBF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82D-93F9-4439-914E-E2EBF3CF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737-2331-4418-94A6-1A2C2EA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773-9E7F-477C-8412-E9003964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420-6314-4B86-BA1F-0E36E34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0FB-2AB5-42B5-8D18-63DAB55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37B-33EE-4BCE-B535-74E9B04A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10C6-A384-4C4F-8250-A76826990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D228-2AF8-47E1-93BA-49460727F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ell Cycle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a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omeres br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move to their respectiv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and pulled by spindle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lo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reach th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and centrioles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membrane forms and nucleus reapp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uncoil and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ytokine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toplasm is divided between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ell membrane forms in 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ell wall forms in 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: 2 daughter cells, identical copies of the parent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24280" y="2125800"/>
            <a:ext cx="41148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81680" y="4876920"/>
            <a:ext cx="1704960" cy="1479600"/>
            <a:chOff x="6781680" y="4876920"/>
            <a:chExt cx="1704960" cy="1479600"/>
          </a:xfrm>
        </p:grpSpPr>
        <p:sp>
          <p:nvSpPr>
            <p:cNvPr id="128" name=""/>
            <p:cNvSpPr/>
            <p:nvPr/>
          </p:nvSpPr>
          <p:spPr>
            <a:xfrm>
              <a:off x="6781680" y="4876920"/>
              <a:ext cx="1704960" cy="1479600"/>
            </a:xfrm>
            <a:custGeom>
              <a:avLst/>
              <a:gdLst/>
              <a:ahLst/>
              <a:rect l="l" t="t" r="r" b="b"/>
              <a:pathLst>
                <a:path w="1074" h="932">
                  <a:moveTo>
                    <a:pt x="1066" y="428"/>
                  </a:moveTo>
                  <a:cubicBezTo>
                    <a:pt x="1058" y="340"/>
                    <a:pt x="1017" y="243"/>
                    <a:pt x="970" y="178"/>
                  </a:cubicBezTo>
                  <a:cubicBezTo>
                    <a:pt x="922" y="112"/>
                    <a:pt x="834" y="58"/>
                    <a:pt x="778" y="34"/>
                  </a:cubicBezTo>
                  <a:cubicBezTo>
                    <a:pt x="722" y="10"/>
                    <a:pt x="674" y="2"/>
                    <a:pt x="634" y="34"/>
                  </a:cubicBezTo>
                  <a:cubicBezTo>
                    <a:pt x="594" y="66"/>
                    <a:pt x="570" y="226"/>
                    <a:pt x="538" y="226"/>
                  </a:cubicBezTo>
                  <a:cubicBezTo>
                    <a:pt x="506" y="226"/>
                    <a:pt x="481" y="67"/>
                    <a:pt x="442" y="34"/>
                  </a:cubicBezTo>
                  <a:cubicBezTo>
                    <a:pt x="402" y="0"/>
                    <a:pt x="354" y="8"/>
                    <a:pt x="302" y="26"/>
                  </a:cubicBezTo>
                  <a:cubicBezTo>
                    <a:pt x="249" y="43"/>
                    <a:pt x="176" y="84"/>
                    <a:pt x="128" y="142"/>
                  </a:cubicBezTo>
                  <a:cubicBezTo>
                    <a:pt x="79" y="199"/>
                    <a:pt x="19" y="278"/>
                    <a:pt x="10" y="370"/>
                  </a:cubicBezTo>
                  <a:cubicBezTo>
                    <a:pt x="0" y="461"/>
                    <a:pt x="24" y="602"/>
                    <a:pt x="72" y="690"/>
                  </a:cubicBezTo>
                  <a:cubicBezTo>
                    <a:pt x="120" y="778"/>
                    <a:pt x="236" y="863"/>
                    <a:pt x="298" y="898"/>
                  </a:cubicBezTo>
                  <a:cubicBezTo>
                    <a:pt x="359" y="932"/>
                    <a:pt x="402" y="930"/>
                    <a:pt x="442" y="898"/>
                  </a:cubicBezTo>
                  <a:cubicBezTo>
                    <a:pt x="482" y="866"/>
                    <a:pt x="506" y="706"/>
                    <a:pt x="538" y="706"/>
                  </a:cubicBezTo>
                  <a:cubicBezTo>
                    <a:pt x="570" y="706"/>
                    <a:pt x="594" y="866"/>
                    <a:pt x="634" y="898"/>
                  </a:cubicBezTo>
                  <a:cubicBezTo>
                    <a:pt x="674" y="930"/>
                    <a:pt x="714" y="929"/>
                    <a:pt x="778" y="898"/>
                  </a:cubicBezTo>
                  <a:cubicBezTo>
                    <a:pt x="841" y="866"/>
                    <a:pt x="970" y="784"/>
                    <a:pt x="1018" y="706"/>
                  </a:cubicBezTo>
                  <a:cubicBezTo>
                    <a:pt x="1066" y="627"/>
                    <a:pt x="1074" y="516"/>
                    <a:pt x="1066" y="42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5ffff"/>
                </a:gs>
              </a:gsLst>
              <a:lin ang="81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881840" y="5329080"/>
              <a:ext cx="457200" cy="722880"/>
              <a:chOff x="7881840" y="5329080"/>
              <a:chExt cx="457200" cy="7228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7932960" y="5333400"/>
                <a:ext cx="244080" cy="654120"/>
                <a:chOff x="7932960" y="5333400"/>
                <a:chExt cx="244080" cy="654120"/>
              </a:xfrm>
            </p:grpSpPr>
            <p:sp>
              <p:nvSpPr>
                <p:cNvPr id="131" name=""/>
                <p:cNvSpPr/>
                <p:nvPr/>
              </p:nvSpPr>
              <p:spPr>
                <a:xfrm flipV="1" rot="1302600">
                  <a:off x="8017200" y="5522400"/>
                  <a:ext cx="7164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9702200">
                  <a:off x="8040600" y="53337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115120" y="5522760"/>
                  <a:ext cx="61920" cy="4392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881840" y="5329080"/>
                <a:ext cx="209520" cy="421920"/>
                <a:chOff x="7881840" y="5329080"/>
                <a:chExt cx="209520" cy="4219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20003400">
                  <a:off x="7959240" y="533376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 rot="2290200">
                  <a:off x="7940160" y="55350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029440" y="55245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071200" y="5414040"/>
                <a:ext cx="267840" cy="637920"/>
                <a:chOff x="8071200" y="5414040"/>
                <a:chExt cx="267840" cy="637920"/>
              </a:xfrm>
            </p:grpSpPr>
            <p:sp>
              <p:nvSpPr>
                <p:cNvPr id="139" name=""/>
                <p:cNvSpPr/>
                <p:nvPr/>
              </p:nvSpPr>
              <p:spPr>
                <a:xfrm flipV="1" rot="1543200">
                  <a:off x="8168760" y="5591160"/>
                  <a:ext cx="7164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9278600">
                  <a:off x="8202240" y="5409720"/>
                  <a:ext cx="65160" cy="2232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277120" y="5592240"/>
                  <a:ext cx="6192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8046720" y="5479920"/>
                <a:ext cx="167040" cy="424080"/>
                <a:chOff x="8046720" y="5479920"/>
                <a:chExt cx="167040" cy="424080"/>
              </a:xfrm>
            </p:grpSpPr>
            <p:sp>
              <p:nvSpPr>
                <p:cNvPr id="143" name=""/>
                <p:cNvSpPr/>
                <p:nvPr/>
              </p:nvSpPr>
              <p:spPr>
                <a:xfrm flipV="1" rot="1685400">
                  <a:off x="8092800" y="568332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20221200">
                  <a:off x="8092800" y="54856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150040" y="5676120"/>
                  <a:ext cx="6156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53040" y="5286600"/>
              <a:ext cx="396360" cy="725400"/>
              <a:chOff x="6953040" y="5286600"/>
              <a:chExt cx="396360" cy="7254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7105320" y="5292000"/>
                <a:ext cx="244080" cy="654480"/>
                <a:chOff x="7105320" y="5292000"/>
                <a:chExt cx="244080" cy="654480"/>
              </a:xfrm>
            </p:grpSpPr>
            <p:sp>
              <p:nvSpPr>
                <p:cNvPr id="148" name=""/>
                <p:cNvSpPr/>
                <p:nvPr/>
              </p:nvSpPr>
              <p:spPr>
                <a:xfrm flipH="1" flipV="1" rot="20297400">
                  <a:off x="7193160" y="54813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rot="1897800">
                  <a:off x="7175880" y="529236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7105320" y="548172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53040" y="5373000"/>
                <a:ext cx="267840" cy="639000"/>
                <a:chOff x="6953040" y="5373000"/>
                <a:chExt cx="267840" cy="639000"/>
              </a:xfrm>
            </p:grpSpPr>
            <p:sp>
              <p:nvSpPr>
                <p:cNvPr id="152" name=""/>
                <p:cNvSpPr/>
                <p:nvPr/>
              </p:nvSpPr>
              <p:spPr>
                <a:xfrm flipH="1" flipV="1" rot="20056800">
                  <a:off x="7050600" y="555048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rot="2321400">
                  <a:off x="7023960" y="536868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6953040" y="555156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026480" y="5286600"/>
                <a:ext cx="168120" cy="424800"/>
                <a:chOff x="7026480" y="5286600"/>
                <a:chExt cx="168120" cy="42480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flipV="1" rot="19914600">
                  <a:off x="7072560" y="549000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rot="1378800">
                  <a:off x="7072920" y="52923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029000" y="548316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7076520" y="5456160"/>
                <a:ext cx="209520" cy="421920"/>
                <a:chOff x="7076520" y="5456160"/>
                <a:chExt cx="209520" cy="421920"/>
              </a:xfrm>
            </p:grpSpPr>
            <p:sp>
              <p:nvSpPr>
                <p:cNvPr id="160" name=""/>
                <p:cNvSpPr/>
                <p:nvPr/>
              </p:nvSpPr>
              <p:spPr>
                <a:xfrm rot="1596600">
                  <a:off x="7135200" y="546084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 rot="19309800">
                  <a:off x="7152120" y="56620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7076520" y="565164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6873840" y="5257800"/>
              <a:ext cx="1523880" cy="761760"/>
              <a:chOff x="6873840" y="5257800"/>
              <a:chExt cx="1523880" cy="7617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73840" y="5257800"/>
                <a:ext cx="55260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45480" y="5257800"/>
                <a:ext cx="55224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6781680" y="4876920"/>
            <a:ext cx="1704960" cy="1479600"/>
            <a:chOff x="6781680" y="4876920"/>
            <a:chExt cx="1704960" cy="1479600"/>
          </a:xfrm>
        </p:grpSpPr>
        <p:sp>
          <p:nvSpPr>
            <p:cNvPr id="167" name=""/>
            <p:cNvSpPr/>
            <p:nvPr/>
          </p:nvSpPr>
          <p:spPr>
            <a:xfrm>
              <a:off x="6781680" y="4876920"/>
              <a:ext cx="1704960" cy="1479600"/>
            </a:xfrm>
            <a:custGeom>
              <a:avLst/>
              <a:gdLst/>
              <a:ahLst/>
              <a:rect l="l" t="t" r="r" b="b"/>
              <a:pathLst>
                <a:path w="1074" h="932">
                  <a:moveTo>
                    <a:pt x="1066" y="428"/>
                  </a:moveTo>
                  <a:cubicBezTo>
                    <a:pt x="1058" y="340"/>
                    <a:pt x="1017" y="243"/>
                    <a:pt x="970" y="178"/>
                  </a:cubicBezTo>
                  <a:cubicBezTo>
                    <a:pt x="922" y="112"/>
                    <a:pt x="834" y="58"/>
                    <a:pt x="778" y="34"/>
                  </a:cubicBezTo>
                  <a:cubicBezTo>
                    <a:pt x="722" y="10"/>
                    <a:pt x="674" y="2"/>
                    <a:pt x="634" y="34"/>
                  </a:cubicBezTo>
                  <a:cubicBezTo>
                    <a:pt x="594" y="66"/>
                    <a:pt x="570" y="226"/>
                    <a:pt x="538" y="226"/>
                  </a:cubicBezTo>
                  <a:cubicBezTo>
                    <a:pt x="506" y="226"/>
                    <a:pt x="481" y="67"/>
                    <a:pt x="442" y="34"/>
                  </a:cubicBezTo>
                  <a:cubicBezTo>
                    <a:pt x="402" y="0"/>
                    <a:pt x="354" y="8"/>
                    <a:pt x="302" y="26"/>
                  </a:cubicBezTo>
                  <a:cubicBezTo>
                    <a:pt x="249" y="43"/>
                    <a:pt x="176" y="84"/>
                    <a:pt x="128" y="142"/>
                  </a:cubicBezTo>
                  <a:cubicBezTo>
                    <a:pt x="79" y="199"/>
                    <a:pt x="19" y="278"/>
                    <a:pt x="10" y="370"/>
                  </a:cubicBezTo>
                  <a:cubicBezTo>
                    <a:pt x="0" y="461"/>
                    <a:pt x="24" y="602"/>
                    <a:pt x="72" y="690"/>
                  </a:cubicBezTo>
                  <a:cubicBezTo>
                    <a:pt x="120" y="778"/>
                    <a:pt x="236" y="863"/>
                    <a:pt x="298" y="898"/>
                  </a:cubicBezTo>
                  <a:cubicBezTo>
                    <a:pt x="359" y="932"/>
                    <a:pt x="402" y="930"/>
                    <a:pt x="442" y="898"/>
                  </a:cubicBezTo>
                  <a:cubicBezTo>
                    <a:pt x="482" y="866"/>
                    <a:pt x="506" y="706"/>
                    <a:pt x="538" y="706"/>
                  </a:cubicBezTo>
                  <a:cubicBezTo>
                    <a:pt x="570" y="706"/>
                    <a:pt x="594" y="866"/>
                    <a:pt x="634" y="898"/>
                  </a:cubicBezTo>
                  <a:cubicBezTo>
                    <a:pt x="674" y="930"/>
                    <a:pt x="714" y="929"/>
                    <a:pt x="778" y="898"/>
                  </a:cubicBezTo>
                  <a:cubicBezTo>
                    <a:pt x="841" y="866"/>
                    <a:pt x="970" y="784"/>
                    <a:pt x="1018" y="706"/>
                  </a:cubicBezTo>
                  <a:cubicBezTo>
                    <a:pt x="1066" y="627"/>
                    <a:pt x="1074" y="516"/>
                    <a:pt x="1066" y="42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5ffff"/>
                </a:gs>
              </a:gsLst>
              <a:lin ang="81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873840" y="5257800"/>
              <a:ext cx="1523880" cy="761760"/>
              <a:chOff x="6873840" y="5257800"/>
              <a:chExt cx="1523880" cy="761760"/>
            </a:xfrm>
          </p:grpSpPr>
          <p:sp>
            <p:nvSpPr>
              <p:cNvPr id="169" name=""/>
              <p:cNvSpPr/>
              <p:nvPr/>
            </p:nvSpPr>
            <p:spPr>
              <a:xfrm>
                <a:off x="6873840" y="5257800"/>
                <a:ext cx="552600" cy="761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45480" y="5257800"/>
                <a:ext cx="552240" cy="761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553080" y="5029200"/>
            <a:ext cx="2239920" cy="1295280"/>
            <a:chOff x="6553080" y="5029200"/>
            <a:chExt cx="2239920" cy="1295280"/>
          </a:xfrm>
        </p:grpSpPr>
        <p:sp>
          <p:nvSpPr>
            <p:cNvPr id="172" name=""/>
            <p:cNvSpPr/>
            <p:nvPr/>
          </p:nvSpPr>
          <p:spPr>
            <a:xfrm>
              <a:off x="7696080" y="50292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53080" y="50292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05720" y="5334120"/>
              <a:ext cx="552240" cy="76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1000" y="5334120"/>
              <a:ext cx="552600" cy="76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781680" y="4854240"/>
            <a:ext cx="1676520" cy="1523880"/>
            <a:chOff x="6781680" y="4854240"/>
            <a:chExt cx="1676520" cy="1523880"/>
          </a:xfrm>
        </p:grpSpPr>
        <p:sp>
          <p:nvSpPr>
            <p:cNvPr id="177" name=""/>
            <p:cNvSpPr/>
            <p:nvPr/>
          </p:nvSpPr>
          <p:spPr>
            <a:xfrm rot="16200000">
              <a:off x="6858000" y="477792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866000" y="5306760"/>
              <a:ext cx="457200" cy="724320"/>
              <a:chOff x="7866000" y="5306760"/>
              <a:chExt cx="457200" cy="7243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917120" y="5311080"/>
                <a:ext cx="244080" cy="654480"/>
                <a:chOff x="7917120" y="5311080"/>
                <a:chExt cx="244080" cy="6544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 rot="1302600">
                  <a:off x="8001360" y="55004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9702200">
                  <a:off x="8024400" y="531144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099280" y="550080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866000" y="5306760"/>
                <a:ext cx="209520" cy="421920"/>
                <a:chOff x="7866000" y="5306760"/>
                <a:chExt cx="209520" cy="42192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rot="20003400">
                  <a:off x="7943400" y="531144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 rot="2290200">
                  <a:off x="7924320" y="55126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013600" y="550224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8055360" y="5392080"/>
                <a:ext cx="267840" cy="639000"/>
                <a:chOff x="8055360" y="5392080"/>
                <a:chExt cx="267840" cy="639000"/>
              </a:xfrm>
            </p:grpSpPr>
            <p:sp>
              <p:nvSpPr>
                <p:cNvPr id="188" name=""/>
                <p:cNvSpPr/>
                <p:nvPr/>
              </p:nvSpPr>
              <p:spPr>
                <a:xfrm flipV="1" rot="1543200">
                  <a:off x="8152920" y="55695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9278600">
                  <a:off x="8186760" y="53877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261280" y="55706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8030880" y="5457960"/>
                <a:ext cx="167040" cy="425160"/>
                <a:chOff x="8030880" y="5457960"/>
                <a:chExt cx="167040" cy="425160"/>
              </a:xfrm>
            </p:grpSpPr>
            <p:sp>
              <p:nvSpPr>
                <p:cNvPr id="192" name=""/>
                <p:cNvSpPr/>
                <p:nvPr/>
              </p:nvSpPr>
              <p:spPr>
                <a:xfrm flipV="1" rot="1685400">
                  <a:off x="8076960" y="566244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0221200">
                  <a:off x="8076960" y="54637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134200" y="5654520"/>
                  <a:ext cx="6156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937200" y="5264280"/>
              <a:ext cx="396360" cy="725400"/>
              <a:chOff x="6937200" y="5264280"/>
              <a:chExt cx="396360" cy="725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089480" y="5269680"/>
                <a:ext cx="244080" cy="654480"/>
                <a:chOff x="7089480" y="5269680"/>
                <a:chExt cx="244080" cy="65448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flipV="1" rot="20297400">
                  <a:off x="7177320" y="54590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1897800">
                  <a:off x="7160040" y="527004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7089480" y="545940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937200" y="5350680"/>
                <a:ext cx="267840" cy="639000"/>
                <a:chOff x="6937200" y="5350680"/>
                <a:chExt cx="267840" cy="63900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20056800">
                  <a:off x="7034760" y="55281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rot="2321400">
                  <a:off x="7008120" y="53463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6937200" y="55292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010640" y="5264280"/>
                <a:ext cx="168120" cy="424800"/>
                <a:chOff x="7010640" y="5264280"/>
                <a:chExt cx="168120" cy="424800"/>
              </a:xfrm>
            </p:grpSpPr>
            <p:sp>
              <p:nvSpPr>
                <p:cNvPr id="205" name=""/>
                <p:cNvSpPr/>
                <p:nvPr/>
              </p:nvSpPr>
              <p:spPr>
                <a:xfrm flipH="1" flipV="1" rot="19914600">
                  <a:off x="7056720" y="54676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rot="1378800">
                  <a:off x="7057080" y="5270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7013160" y="546084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060680" y="5433840"/>
                <a:ext cx="209520" cy="421920"/>
                <a:chOff x="7060680" y="5433840"/>
                <a:chExt cx="209520" cy="421920"/>
              </a:xfrm>
            </p:grpSpPr>
            <p:sp>
              <p:nvSpPr>
                <p:cNvPr id="209" name=""/>
                <p:cNvSpPr/>
                <p:nvPr/>
              </p:nvSpPr>
              <p:spPr>
                <a:xfrm rot="1596600">
                  <a:off x="7119360" y="543852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19309800">
                  <a:off x="7136280" y="563976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060680" y="562932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858000" y="5235480"/>
              <a:ext cx="1523880" cy="761760"/>
              <a:chOff x="6858000" y="5235480"/>
              <a:chExt cx="1523880" cy="761760"/>
            </a:xfrm>
          </p:grpSpPr>
          <p:sp>
            <p:nvSpPr>
              <p:cNvPr id="213" name=""/>
              <p:cNvSpPr/>
              <p:nvPr/>
            </p:nvSpPr>
            <p:spPr>
              <a:xfrm>
                <a:off x="6858000" y="5235480"/>
                <a:ext cx="55260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829640" y="5235480"/>
                <a:ext cx="55224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ges Of Mit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240" y="838080"/>
            <a:ext cx="1540080" cy="2044080"/>
            <a:chOff x="228240" y="838080"/>
            <a:chExt cx="1540080" cy="2044080"/>
          </a:xfrm>
        </p:grpSpPr>
        <p:sp>
          <p:nvSpPr>
            <p:cNvPr id="217" name=""/>
            <p:cNvSpPr/>
            <p:nvPr/>
          </p:nvSpPr>
          <p:spPr>
            <a:xfrm>
              <a:off x="244440" y="83808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8240" y="242244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ph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480" y="1295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49494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105520" y="2895480"/>
            <a:ext cx="1689120" cy="2425320"/>
            <a:chOff x="5105520" y="2895480"/>
            <a:chExt cx="1689120" cy="2425320"/>
          </a:xfrm>
        </p:grpSpPr>
        <p:sp>
          <p:nvSpPr>
            <p:cNvPr id="221" name=""/>
            <p:cNvSpPr/>
            <p:nvPr/>
          </p:nvSpPr>
          <p:spPr>
            <a:xfrm>
              <a:off x="5105520" y="2895480"/>
              <a:ext cx="60948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257800" y="3276720"/>
              <a:ext cx="1536840" cy="2044080"/>
              <a:chOff x="5257800" y="3276720"/>
              <a:chExt cx="1536840" cy="2044080"/>
            </a:xfrm>
          </p:grpSpPr>
          <p:sp>
            <p:nvSpPr>
              <p:cNvPr id="223" name=""/>
              <p:cNvSpPr/>
              <p:nvPr/>
            </p:nvSpPr>
            <p:spPr>
              <a:xfrm>
                <a:off x="5335200" y="4861080"/>
                <a:ext cx="14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naphase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5257800" y="3276720"/>
                <a:ext cx="1523880" cy="1676160"/>
                <a:chOff x="5257800" y="3276720"/>
                <a:chExt cx="1523880" cy="1676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257800" y="3276720"/>
                  <a:ext cx="1523880" cy="167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5365800" y="3448080"/>
                  <a:ext cx="1266840" cy="1352520"/>
                  <a:chOff x="5365800" y="3448080"/>
                  <a:chExt cx="1266840" cy="1352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94600" y="4114800"/>
                    <a:ext cx="121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394600" y="3984480"/>
                    <a:ext cx="1199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365800" y="4416480"/>
                    <a:ext cx="1266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375520" y="3448080"/>
                    <a:ext cx="125100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97480" y="4194000"/>
                    <a:ext cx="1203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94600" y="3767040"/>
                    <a:ext cx="12096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397480" y="3592440"/>
                    <a:ext cx="120996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381640" y="4289400"/>
                    <a:ext cx="123372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5638680" y="3290760"/>
                  <a:ext cx="642960" cy="1492560"/>
                  <a:chOff x="5638680" y="3290760"/>
                  <a:chExt cx="642960" cy="149256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682960" y="3939480"/>
                    <a:ext cx="244080" cy="654480"/>
                    <a:chOff x="5682960" y="3939480"/>
                    <a:chExt cx="244080" cy="65448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flipH="1" flipV="1" rot="20297400">
                      <a:off x="5770800" y="41288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rot="1897800">
                      <a:off x="5753520" y="3939840"/>
                      <a:ext cx="651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>
                      <a:off x="5682960" y="4129200"/>
                      <a:ext cx="61920" cy="4428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676480" y="3322440"/>
                    <a:ext cx="209520" cy="421920"/>
                    <a:chOff x="5676480" y="3322440"/>
                    <a:chExt cx="209520" cy="4219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rot="1596600">
                      <a:off x="5735160" y="3327120"/>
                      <a:ext cx="7308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flipV="1" rot="19309800">
                      <a:off x="5752080" y="3528360"/>
                      <a:ext cx="7452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>
                      <a:off x="5676480" y="3517920"/>
                      <a:ext cx="61920" cy="4428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5638680" y="4118760"/>
                    <a:ext cx="267840" cy="639000"/>
                    <a:chOff x="5638680" y="4118760"/>
                    <a:chExt cx="267840" cy="63900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flipH="1" flipV="1" rot="20056800">
                      <a:off x="5736240" y="42962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H="1" rot="2321400">
                      <a:off x="5709600" y="411444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H="1">
                      <a:off x="5638680" y="429732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712120" y="3597480"/>
                    <a:ext cx="168120" cy="424800"/>
                    <a:chOff x="5712120" y="3597480"/>
                    <a:chExt cx="168120" cy="4248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flipV="1" rot="19914600">
                      <a:off x="5758200" y="380088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378800">
                      <a:off x="5758560" y="3603240"/>
                      <a:ext cx="7452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>
                      <a:off x="5714640" y="3794040"/>
                      <a:ext cx="61920" cy="44640"/>
                    </a:xfrm>
                    <a:prstGeom prst="ellipse">
                      <a:avLst/>
                    </a:pr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6034320" y="3939480"/>
                    <a:ext cx="244080" cy="654480"/>
                    <a:chOff x="6034320" y="3939480"/>
                    <a:chExt cx="244080" cy="65448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 flipV="1" rot="1302600">
                      <a:off x="6118560" y="41288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rot="19702200">
                      <a:off x="6141600" y="3939840"/>
                      <a:ext cx="651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216480" y="4129200"/>
                      <a:ext cx="61920" cy="4428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6040440" y="3290760"/>
                    <a:ext cx="209520" cy="421920"/>
                    <a:chOff x="6040440" y="3290760"/>
                    <a:chExt cx="209520" cy="42192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 flipH="1" rot="20003400">
                      <a:off x="6117840" y="3295440"/>
                      <a:ext cx="7308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flipV="1" rot="2290200">
                      <a:off x="6098760" y="3496680"/>
                      <a:ext cx="7452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6188040" y="3486240"/>
                      <a:ext cx="61920" cy="4428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6013800" y="4144320"/>
                    <a:ext cx="267840" cy="639000"/>
                    <a:chOff x="6013800" y="4144320"/>
                    <a:chExt cx="267840" cy="63900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V="1" rot="1543200">
                      <a:off x="6111360" y="432180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rot="19278600">
                      <a:off x="6145200" y="414000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219720" y="432288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103440" y="3597480"/>
                    <a:ext cx="167760" cy="424800"/>
                    <a:chOff x="6103440" y="3597480"/>
                    <a:chExt cx="167760" cy="4248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V="1" rot="1685400">
                      <a:off x="6149880" y="380088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rot="20221200">
                      <a:off x="6149520" y="360324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207120" y="3794040"/>
                      <a:ext cx="61920" cy="44640"/>
                    </a:xfrm>
                    <a:prstGeom prst="ellipse">
                      <a:avLst/>
                    </a:pr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8" name=""/>
          <p:cNvGrpSpPr/>
          <p:nvPr/>
        </p:nvGrpSpPr>
        <p:grpSpPr>
          <a:xfrm>
            <a:off x="6858000" y="4114800"/>
            <a:ext cx="1587600" cy="2593440"/>
            <a:chOff x="6858000" y="4114800"/>
            <a:chExt cx="1587600" cy="2593440"/>
          </a:xfrm>
        </p:grpSpPr>
        <p:sp>
          <p:nvSpPr>
            <p:cNvPr id="269" name=""/>
            <p:cNvSpPr/>
            <p:nvPr/>
          </p:nvSpPr>
          <p:spPr>
            <a:xfrm>
              <a:off x="6934320" y="62485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loph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858000" y="4114800"/>
              <a:ext cx="1143000" cy="838080"/>
              <a:chOff x="6858000" y="4114800"/>
              <a:chExt cx="1143000" cy="838080"/>
            </a:xfrm>
          </p:grpSpPr>
          <p:sp>
            <p:nvSpPr>
              <p:cNvPr id="271" name=""/>
              <p:cNvSpPr/>
              <p:nvPr/>
            </p:nvSpPr>
            <p:spPr>
              <a:xfrm>
                <a:off x="6858000" y="4114800"/>
                <a:ext cx="1143000" cy="76212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58000" y="4114800"/>
                <a:ext cx="228600" cy="83808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3429000" y="2057400"/>
            <a:ext cx="1731960" cy="2424960"/>
            <a:chOff x="3429000" y="2057400"/>
            <a:chExt cx="1731960" cy="2424960"/>
          </a:xfrm>
        </p:grpSpPr>
        <p:sp>
          <p:nvSpPr>
            <p:cNvPr id="274" name=""/>
            <p:cNvSpPr/>
            <p:nvPr/>
          </p:nvSpPr>
          <p:spPr>
            <a:xfrm>
              <a:off x="3581280" y="40226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taph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97120" y="2438280"/>
              <a:ext cx="152424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249800" y="3120480"/>
              <a:ext cx="167760" cy="659520"/>
              <a:chOff x="4249800" y="3120480"/>
              <a:chExt cx="167760" cy="659520"/>
            </a:xfrm>
          </p:grpSpPr>
          <p:sp>
            <p:nvSpPr>
              <p:cNvPr id="277" name=""/>
              <p:cNvSpPr/>
              <p:nvPr/>
            </p:nvSpPr>
            <p:spPr>
              <a:xfrm flipH="1" flipV="1" rot="21345600">
                <a:off x="4327920" y="3304080"/>
                <a:ext cx="7164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609600">
                <a:off x="4333320" y="31240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254400">
                <a:off x="4267080" y="330876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0990400">
                <a:off x="4271760" y="3127320"/>
                <a:ext cx="651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240" y="3309840"/>
                <a:ext cx="61920" cy="4464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254120" y="2434680"/>
              <a:ext cx="159120" cy="418680"/>
              <a:chOff x="4254120" y="2434680"/>
              <a:chExt cx="159120" cy="418680"/>
            </a:xfrm>
          </p:grpSpPr>
          <p:sp>
            <p:nvSpPr>
              <p:cNvPr id="283" name=""/>
              <p:cNvSpPr/>
              <p:nvPr/>
            </p:nvSpPr>
            <p:spPr>
              <a:xfrm flipH="1" flipV="1" rot="21178800">
                <a:off x="4326840" y="263376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384600">
                <a:off x="4326840" y="243792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421200">
                <a:off x="4266720" y="26337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215400">
                <a:off x="4266720" y="244116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05240" y="261000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249800" y="3349080"/>
              <a:ext cx="167760" cy="659520"/>
              <a:chOff x="4249800" y="3349080"/>
              <a:chExt cx="167760" cy="659520"/>
            </a:xfrm>
          </p:grpSpPr>
          <p:sp>
            <p:nvSpPr>
              <p:cNvPr id="289" name=""/>
              <p:cNvSpPr/>
              <p:nvPr/>
            </p:nvSpPr>
            <p:spPr>
              <a:xfrm flipH="1" flipV="1" rot="21345600">
                <a:off x="4328640" y="35326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609600">
                <a:off x="4333320" y="33526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 rot="254400">
                <a:off x="4267440" y="35373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90400">
                <a:off x="4271760" y="33559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05240" y="353844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254120" y="2739600"/>
              <a:ext cx="158760" cy="418320"/>
              <a:chOff x="4254120" y="2739600"/>
              <a:chExt cx="158760" cy="418320"/>
            </a:xfrm>
          </p:grpSpPr>
          <p:sp>
            <p:nvSpPr>
              <p:cNvPr id="295" name=""/>
              <p:cNvSpPr/>
              <p:nvPr/>
            </p:nvSpPr>
            <p:spPr>
              <a:xfrm flipH="1" flipV="1" rot="21178800">
                <a:off x="4326480" y="293760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384600">
                <a:off x="4326480" y="274284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 rot="421200">
                <a:off x="4266720" y="293760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215400">
                <a:off x="4266720" y="27460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05240" y="291456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705120" y="2610000"/>
              <a:ext cx="1266840" cy="1352520"/>
              <a:chOff x="3705120" y="2610000"/>
              <a:chExt cx="1266840" cy="1352520"/>
            </a:xfrm>
          </p:grpSpPr>
          <p:sp>
            <p:nvSpPr>
              <p:cNvPr id="301" name=""/>
              <p:cNvSpPr/>
              <p:nvPr/>
            </p:nvSpPr>
            <p:spPr>
              <a:xfrm>
                <a:off x="3733920" y="3276720"/>
                <a:ext cx="1212840" cy="44280"/>
              </a:xfrm>
              <a:custGeom>
                <a:avLst/>
                <a:gdLst/>
                <a:ahLst/>
                <a:rect l="l" t="t" r="r" b="b"/>
                <a:pathLst>
                  <a:path w="764" h="28">
                    <a:moveTo>
                      <a:pt x="764" y="0"/>
                    </a:moveTo>
                    <a:cubicBezTo>
                      <a:pt x="700" y="4"/>
                      <a:pt x="509" y="27"/>
                      <a:pt x="382" y="28"/>
                    </a:cubicBezTo>
                    <a:cubicBezTo>
                      <a:pt x="254" y="28"/>
                      <a:pt x="79" y="8"/>
                      <a:pt x="0" y="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146400"/>
                <a:ext cx="1199880" cy="47520"/>
              </a:xfrm>
              <a:custGeom>
                <a:avLst/>
                <a:gdLst/>
                <a:ahLst/>
                <a:rect l="l" t="t" r="r" b="b"/>
                <a:pathLst>
                  <a:path w="756" h="30">
                    <a:moveTo>
                      <a:pt x="0" y="30"/>
                    </a:moveTo>
                    <a:cubicBezTo>
                      <a:pt x="105" y="16"/>
                      <a:pt x="206" y="2"/>
                      <a:pt x="332" y="1"/>
                    </a:cubicBezTo>
                    <a:cubicBezTo>
                      <a:pt x="458" y="0"/>
                      <a:pt x="667" y="19"/>
                      <a:pt x="756" y="2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05120" y="3578400"/>
                <a:ext cx="1266840" cy="384120"/>
              </a:xfrm>
              <a:custGeom>
                <a:avLst/>
                <a:gdLst/>
                <a:ahLst/>
                <a:rect l="l" t="t" r="r" b="b"/>
                <a:pathLst>
                  <a:path w="798" h="242">
                    <a:moveTo>
                      <a:pt x="798" y="0"/>
                    </a:moveTo>
                    <a:cubicBezTo>
                      <a:pt x="732" y="40"/>
                      <a:pt x="541" y="237"/>
                      <a:pt x="408" y="240"/>
                    </a:cubicBezTo>
                    <a:cubicBezTo>
                      <a:pt x="275" y="242"/>
                      <a:pt x="85" y="62"/>
                      <a:pt x="0" y="16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14840" y="2610000"/>
                <a:ext cx="1251000" cy="314280"/>
              </a:xfrm>
              <a:custGeom>
                <a:avLst/>
                <a:gdLst/>
                <a:ahLst/>
                <a:rect l="l" t="t" r="r" b="b"/>
                <a:pathLst>
                  <a:path w="788" h="198">
                    <a:moveTo>
                      <a:pt x="0" y="198"/>
                    </a:moveTo>
                    <a:cubicBezTo>
                      <a:pt x="65" y="165"/>
                      <a:pt x="260" y="3"/>
                      <a:pt x="392" y="2"/>
                    </a:cubicBezTo>
                    <a:cubicBezTo>
                      <a:pt x="523" y="0"/>
                      <a:pt x="705" y="149"/>
                      <a:pt x="788" y="188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36800" y="3355920"/>
                <a:ext cx="1203480" cy="184320"/>
              </a:xfrm>
              <a:custGeom>
                <a:avLst/>
                <a:gdLst/>
                <a:ahLst/>
                <a:rect l="l" t="t" r="r" b="b"/>
                <a:pathLst>
                  <a:path w="758" h="116">
                    <a:moveTo>
                      <a:pt x="758" y="0"/>
                    </a:moveTo>
                    <a:cubicBezTo>
                      <a:pt x="695" y="18"/>
                      <a:pt x="510" y="108"/>
                      <a:pt x="384" y="112"/>
                    </a:cubicBezTo>
                    <a:cubicBezTo>
                      <a:pt x="257" y="116"/>
                      <a:pt x="80" y="42"/>
                      <a:pt x="0" y="2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33920" y="2928960"/>
                <a:ext cx="1209600" cy="193680"/>
              </a:xfrm>
              <a:custGeom>
                <a:avLst/>
                <a:gdLst/>
                <a:ahLst/>
                <a:rect l="l" t="t" r="r" b="b"/>
                <a:pathLst>
                  <a:path w="762" h="122">
                    <a:moveTo>
                      <a:pt x="0" y="122"/>
                    </a:moveTo>
                    <a:cubicBezTo>
                      <a:pt x="63" y="102"/>
                      <a:pt x="251" y="5"/>
                      <a:pt x="378" y="3"/>
                    </a:cubicBezTo>
                    <a:cubicBezTo>
                      <a:pt x="505" y="0"/>
                      <a:pt x="682" y="85"/>
                      <a:pt x="762" y="107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36800" y="2754360"/>
                <a:ext cx="1209960" cy="268200"/>
              </a:xfrm>
              <a:custGeom>
                <a:avLst/>
                <a:gdLst/>
                <a:ahLst/>
                <a:rect l="l" t="t" r="r" b="b"/>
                <a:pathLst>
                  <a:path w="762" h="169">
                    <a:moveTo>
                      <a:pt x="0" y="169"/>
                    </a:moveTo>
                    <a:cubicBezTo>
                      <a:pt x="61" y="141"/>
                      <a:pt x="247" y="5"/>
                      <a:pt x="374" y="3"/>
                    </a:cubicBezTo>
                    <a:cubicBezTo>
                      <a:pt x="501" y="0"/>
                      <a:pt x="681" y="123"/>
                      <a:pt x="762" y="155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20960" y="3451320"/>
                <a:ext cx="1233720" cy="301680"/>
              </a:xfrm>
              <a:custGeom>
                <a:avLst/>
                <a:gdLst/>
                <a:ahLst/>
                <a:rect l="l" t="t" r="r" b="b"/>
                <a:pathLst>
                  <a:path w="777" h="190">
                    <a:moveTo>
                      <a:pt x="777" y="0"/>
                    </a:moveTo>
                    <a:cubicBezTo>
                      <a:pt x="712" y="31"/>
                      <a:pt x="521" y="181"/>
                      <a:pt x="392" y="186"/>
                    </a:cubicBezTo>
                    <a:cubicBezTo>
                      <a:pt x="262" y="190"/>
                      <a:pt x="81" y="60"/>
                      <a:pt x="0" y="28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429000" y="2057400"/>
              <a:ext cx="60948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286000" y="3581280"/>
            <a:ext cx="1600200" cy="978120"/>
            <a:chOff x="2286000" y="3581280"/>
            <a:chExt cx="1600200" cy="978120"/>
          </a:xfrm>
        </p:grpSpPr>
        <p:sp>
          <p:nvSpPr>
            <p:cNvPr id="311" name=""/>
            <p:cNvSpPr/>
            <p:nvPr/>
          </p:nvSpPr>
          <p:spPr>
            <a:xfrm>
              <a:off x="2286000" y="373392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itotic spind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352680" y="3581280"/>
              <a:ext cx="533520" cy="30492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752480" y="1219320"/>
            <a:ext cx="1692360" cy="2501280"/>
            <a:chOff x="1752480" y="1219320"/>
            <a:chExt cx="1692360" cy="2501280"/>
          </a:xfrm>
        </p:grpSpPr>
        <p:sp>
          <p:nvSpPr>
            <p:cNvPr id="314" name=""/>
            <p:cNvSpPr/>
            <p:nvPr/>
          </p:nvSpPr>
          <p:spPr>
            <a:xfrm>
              <a:off x="1920960" y="1676520"/>
              <a:ext cx="1523880" cy="167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317320" y="2285280"/>
              <a:ext cx="379800" cy="660240"/>
              <a:chOff x="2317320" y="2285280"/>
              <a:chExt cx="379800" cy="660240"/>
            </a:xfrm>
          </p:grpSpPr>
          <p:sp>
            <p:nvSpPr>
              <p:cNvPr id="316" name=""/>
              <p:cNvSpPr/>
              <p:nvPr/>
            </p:nvSpPr>
            <p:spPr>
              <a:xfrm flipH="1" flipV="1" rot="20097600">
                <a:off x="2529000" y="2449440"/>
                <a:ext cx="71640" cy="4705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20961000">
                <a:off x="2426400" y="22888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 rot="20605800">
                <a:off x="2472840" y="247572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741800">
                <a:off x="2369880" y="231336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0351400">
                <a:off x="2433960" y="247860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565000" y="1901520"/>
              <a:ext cx="159120" cy="418320"/>
              <a:chOff x="2565000" y="1901520"/>
              <a:chExt cx="159120" cy="418320"/>
            </a:xfrm>
          </p:grpSpPr>
          <p:sp>
            <p:nvSpPr>
              <p:cNvPr id="322" name=""/>
              <p:cNvSpPr/>
              <p:nvPr/>
            </p:nvSpPr>
            <p:spPr>
              <a:xfrm flipH="1" flipV="1" rot="21178800">
                <a:off x="2637720" y="20995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384600">
                <a:off x="2637720" y="190476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421200">
                <a:off x="2577600" y="2099520"/>
                <a:ext cx="748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215400">
                <a:off x="2577600" y="1907640"/>
                <a:ext cx="748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16120" y="207648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624760" y="2363760"/>
              <a:ext cx="366120" cy="655200"/>
              <a:chOff x="2624760" y="2363760"/>
              <a:chExt cx="366120" cy="655200"/>
            </a:xfrm>
          </p:grpSpPr>
          <p:sp>
            <p:nvSpPr>
              <p:cNvPr id="328" name=""/>
              <p:cNvSpPr/>
              <p:nvPr/>
            </p:nvSpPr>
            <p:spPr>
              <a:xfrm flipH="1" flipV="1" rot="889200">
                <a:off x="2774160" y="2547720"/>
                <a:ext cx="7128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1753200">
                <a:off x="2877840" y="238428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 rot="1398000">
                <a:off x="2714400" y="2530800"/>
                <a:ext cx="7128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34000">
                <a:off x="2818440" y="236736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143600">
                <a:off x="2820240" y="2554920"/>
                <a:ext cx="61560" cy="43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715480" y="2060640"/>
              <a:ext cx="381600" cy="405000"/>
              <a:chOff x="2715480" y="2060640"/>
              <a:chExt cx="381600" cy="405000"/>
            </a:xfrm>
          </p:grpSpPr>
          <p:sp>
            <p:nvSpPr>
              <p:cNvPr id="334" name=""/>
              <p:cNvSpPr/>
              <p:nvPr/>
            </p:nvSpPr>
            <p:spPr>
              <a:xfrm flipH="1" flipV="1" rot="18693600">
                <a:off x="2955240" y="220716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rot="19499400">
                <a:off x="2826000" y="20617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 rot="19536000">
                <a:off x="2909880" y="2247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8730200">
                <a:off x="2783160" y="2103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9114800">
                <a:off x="2867760" y="2230200"/>
                <a:ext cx="61920" cy="44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982160" y="32608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ph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2480" y="1219320"/>
              <a:ext cx="60984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05080" y="1905120"/>
              <a:ext cx="819000" cy="1108080"/>
            </a:xfrm>
            <a:prstGeom prst="ellipse">
              <a:avLst/>
            </a:prstGeom>
            <a:noFill/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71600" y="1143000"/>
            <a:ext cx="2682720" cy="1191240"/>
            <a:chOff x="1371600" y="1143000"/>
            <a:chExt cx="2682720" cy="1191240"/>
          </a:xfrm>
        </p:grpSpPr>
        <p:sp>
          <p:nvSpPr>
            <p:cNvPr id="343" name=""/>
            <p:cNvSpPr/>
            <p:nvPr/>
          </p:nvSpPr>
          <p:spPr>
            <a:xfrm>
              <a:off x="1752480" y="1143000"/>
              <a:ext cx="230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ucleus with un-condensed chromosom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371600" y="1371600"/>
              <a:ext cx="457200" cy="15228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343400" y="1905120"/>
            <a:ext cx="1905120" cy="2209320"/>
            <a:chOff x="4343400" y="1905120"/>
            <a:chExt cx="1905120" cy="2209320"/>
          </a:xfrm>
        </p:grpSpPr>
        <p:sp>
          <p:nvSpPr>
            <p:cNvPr id="346" name=""/>
            <p:cNvSpPr/>
            <p:nvPr/>
          </p:nvSpPr>
          <p:spPr>
            <a:xfrm flipV="1">
              <a:off x="4343400" y="2437920"/>
              <a:ext cx="0" cy="1676520"/>
            </a:xfrm>
            <a:prstGeom prst="line">
              <a:avLst/>
            </a:prstGeom>
            <a:ln cap="rnd" w="12600">
              <a:solidFill>
                <a:srgbClr val="ff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43400" y="1905120"/>
              <a:ext cx="1905120" cy="825480"/>
              <a:chOff x="4343400" y="1905120"/>
              <a:chExt cx="1905120" cy="825480"/>
            </a:xfrm>
          </p:grpSpPr>
          <p:sp>
            <p:nvSpPr>
              <p:cNvPr id="348" name=""/>
              <p:cNvSpPr/>
              <p:nvPr/>
            </p:nvSpPr>
            <p:spPr>
              <a:xfrm>
                <a:off x="4800600" y="1905120"/>
                <a:ext cx="144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quator of the cel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343400" y="2133720"/>
                <a:ext cx="533520" cy="30456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2971800" y="1676520"/>
            <a:ext cx="2759040" cy="825480"/>
            <a:chOff x="2971800" y="1676520"/>
            <a:chExt cx="2759040" cy="825480"/>
          </a:xfrm>
        </p:grpSpPr>
        <p:sp>
          <p:nvSpPr>
            <p:cNvPr id="351" name=""/>
            <p:cNvSpPr/>
            <p:nvPr/>
          </p:nvSpPr>
          <p:spPr>
            <a:xfrm>
              <a:off x="3429000" y="1676520"/>
              <a:ext cx="230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ndensed chromosom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971800" y="1905120"/>
              <a:ext cx="533520" cy="3045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52280" y="2819520"/>
            <a:ext cx="2210040" cy="1343520"/>
            <a:chOff x="152280" y="2819520"/>
            <a:chExt cx="2210040" cy="1343520"/>
          </a:xfrm>
        </p:grpSpPr>
        <p:sp>
          <p:nvSpPr>
            <p:cNvPr id="354" name=""/>
            <p:cNvSpPr/>
            <p:nvPr/>
          </p:nvSpPr>
          <p:spPr>
            <a:xfrm>
              <a:off x="152280" y="29718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appearing nuclear membra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28800" y="2819520"/>
              <a:ext cx="533520" cy="3045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257440" y="2819520"/>
            <a:ext cx="2972160" cy="1295280"/>
            <a:chOff x="5257440" y="2819520"/>
            <a:chExt cx="2972160" cy="1295280"/>
          </a:xfrm>
        </p:grpSpPr>
        <p:sp>
          <p:nvSpPr>
            <p:cNvPr id="357" name=""/>
            <p:cNvSpPr/>
            <p:nvPr/>
          </p:nvSpPr>
          <p:spPr>
            <a:xfrm>
              <a:off x="6781680" y="281952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les of the cel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257440" y="3032280"/>
              <a:ext cx="1600200" cy="1082520"/>
              <a:chOff x="5257440" y="3032280"/>
              <a:chExt cx="1600200" cy="1082520"/>
            </a:xfrm>
          </p:grpSpPr>
          <p:sp>
            <p:nvSpPr>
              <p:cNvPr id="359" name=""/>
              <p:cNvSpPr/>
              <p:nvPr/>
            </p:nvSpPr>
            <p:spPr>
              <a:xfrm flipH="1">
                <a:off x="5257440" y="3048120"/>
                <a:ext cx="1600200" cy="106668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781320" y="3032280"/>
                <a:ext cx="73080" cy="1006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227520" y="3808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her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86240" y="3048120"/>
            <a:ext cx="1524240" cy="1981080"/>
            <a:chOff x="7086240" y="3048120"/>
            <a:chExt cx="1524240" cy="1981080"/>
          </a:xfrm>
        </p:grpSpPr>
        <p:sp>
          <p:nvSpPr>
            <p:cNvPr id="363" name=""/>
            <p:cNvSpPr/>
            <p:nvPr/>
          </p:nvSpPr>
          <p:spPr>
            <a:xfrm flipH="1">
              <a:off x="7086240" y="4127400"/>
              <a:ext cx="544680" cy="9018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2920" y="4127400"/>
              <a:ext cx="243000" cy="9018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2920" y="30481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wo daughter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240" y="5407200"/>
            <a:ext cx="1617840" cy="627480"/>
            <a:chOff x="6843240" y="5407200"/>
            <a:chExt cx="1617840" cy="627480"/>
          </a:xfrm>
        </p:grpSpPr>
        <p:grpSp>
          <p:nvGrpSpPr>
            <p:cNvPr id="367" name=""/>
            <p:cNvGrpSpPr/>
            <p:nvPr/>
          </p:nvGrpSpPr>
          <p:grpSpPr>
            <a:xfrm>
              <a:off x="8371080" y="5483880"/>
              <a:ext cx="90000" cy="348120"/>
              <a:chOff x="8371080" y="5483880"/>
              <a:chExt cx="90000" cy="348120"/>
            </a:xfrm>
          </p:grpSpPr>
          <p:sp>
            <p:nvSpPr>
              <p:cNvPr id="368" name=""/>
              <p:cNvSpPr/>
              <p:nvPr/>
            </p:nvSpPr>
            <p:spPr>
              <a:xfrm flipV="1" rot="421200">
                <a:off x="8381520" y="5647680"/>
                <a:ext cx="5940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215400">
                <a:off x="8381520" y="5486400"/>
                <a:ext cx="5940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411760" y="5627520"/>
                <a:ext cx="4932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305920" y="5483520"/>
              <a:ext cx="86040" cy="333000"/>
              <a:chOff x="8305920" y="5483520"/>
              <a:chExt cx="86040" cy="333000"/>
            </a:xfrm>
          </p:grpSpPr>
          <p:sp>
            <p:nvSpPr>
              <p:cNvPr id="372" name=""/>
              <p:cNvSpPr/>
              <p:nvPr/>
            </p:nvSpPr>
            <p:spPr>
              <a:xfrm flipH="1" flipV="1" rot="21178800">
                <a:off x="8323200" y="5641560"/>
                <a:ext cx="5796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rot="384600">
                <a:off x="8322840" y="5486040"/>
                <a:ext cx="5796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05920" y="562248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8153280" y="5407200"/>
              <a:ext cx="88920" cy="551520"/>
              <a:chOff x="8153280" y="5407200"/>
              <a:chExt cx="88920" cy="551520"/>
            </a:xfrm>
          </p:grpSpPr>
          <p:sp>
            <p:nvSpPr>
              <p:cNvPr id="376" name=""/>
              <p:cNvSpPr/>
              <p:nvPr/>
            </p:nvSpPr>
            <p:spPr>
              <a:xfrm flipH="1" flipV="1" rot="21345600">
                <a:off x="8170560" y="5560560"/>
                <a:ext cx="56160" cy="39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rot="609600">
                <a:off x="8174880" y="5409720"/>
                <a:ext cx="48600" cy="1882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53280" y="5565600"/>
                <a:ext cx="48600" cy="3672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000560" y="5483880"/>
              <a:ext cx="86040" cy="332640"/>
              <a:chOff x="7000560" y="5483880"/>
              <a:chExt cx="86040" cy="332640"/>
            </a:xfrm>
          </p:grpSpPr>
          <p:sp>
            <p:nvSpPr>
              <p:cNvPr id="380" name=""/>
              <p:cNvSpPr/>
              <p:nvPr/>
            </p:nvSpPr>
            <p:spPr>
              <a:xfrm flipV="1" rot="421200">
                <a:off x="7010640" y="564156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1215400">
                <a:off x="7010280" y="548640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036920" y="562248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086960" y="5560200"/>
              <a:ext cx="89640" cy="347760"/>
              <a:chOff x="7086960" y="5560200"/>
              <a:chExt cx="89640" cy="347760"/>
            </a:xfrm>
          </p:grpSpPr>
          <p:sp>
            <p:nvSpPr>
              <p:cNvPr id="384" name=""/>
              <p:cNvSpPr/>
              <p:nvPr/>
            </p:nvSpPr>
            <p:spPr>
              <a:xfrm flipH="1" flipV="1" rot="21178800">
                <a:off x="7106760" y="572364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rot="384600">
                <a:off x="7107120" y="55627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086960" y="57038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843240" y="5483520"/>
              <a:ext cx="88920" cy="551160"/>
              <a:chOff x="6843240" y="5483520"/>
              <a:chExt cx="88920" cy="551160"/>
            </a:xfrm>
          </p:grpSpPr>
          <p:sp>
            <p:nvSpPr>
              <p:cNvPr id="388" name=""/>
              <p:cNvSpPr/>
              <p:nvPr/>
            </p:nvSpPr>
            <p:spPr>
              <a:xfrm flipV="1" rot="254400">
                <a:off x="6856920" y="563724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990400">
                <a:off x="6861600" y="5486040"/>
                <a:ext cx="48240" cy="188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883920" y="564156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921000" y="5483520"/>
              <a:ext cx="87480" cy="522000"/>
              <a:chOff x="6921000" y="5483520"/>
              <a:chExt cx="87480" cy="522000"/>
            </a:xfrm>
          </p:grpSpPr>
          <p:sp>
            <p:nvSpPr>
              <p:cNvPr id="392" name=""/>
              <p:cNvSpPr/>
              <p:nvPr/>
            </p:nvSpPr>
            <p:spPr>
              <a:xfrm flipV="1" rot="254400">
                <a:off x="6933960" y="5630400"/>
                <a:ext cx="5580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990400">
                <a:off x="6938640" y="548640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960240" y="563400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229600" y="5483520"/>
              <a:ext cx="87480" cy="522000"/>
              <a:chOff x="8229600" y="5483520"/>
              <a:chExt cx="87480" cy="522000"/>
            </a:xfrm>
          </p:grpSpPr>
          <p:sp>
            <p:nvSpPr>
              <p:cNvPr id="396" name=""/>
              <p:cNvSpPr/>
              <p:nvPr/>
            </p:nvSpPr>
            <p:spPr>
              <a:xfrm flipH="1" flipV="1" rot="21345600">
                <a:off x="8247960" y="5630400"/>
                <a:ext cx="5580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609600">
                <a:off x="8250480" y="548640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229600" y="563400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971800" y="2438280"/>
            <a:ext cx="1616040" cy="3035520"/>
            <a:chOff x="2971800" y="2438280"/>
            <a:chExt cx="1616040" cy="3035520"/>
          </a:xfrm>
        </p:grpSpPr>
        <p:sp>
          <p:nvSpPr>
            <p:cNvPr id="400" name=""/>
            <p:cNvSpPr/>
            <p:nvPr/>
          </p:nvSpPr>
          <p:spPr>
            <a:xfrm>
              <a:off x="4222800" y="2438280"/>
              <a:ext cx="228600" cy="16765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657240" y="3809880"/>
              <a:ext cx="60948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1800" y="4648320"/>
              <a:ext cx="161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taphase pla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 of Mit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04920" y="987480"/>
            <a:ext cx="86104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0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the cell cycl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ous sequence of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place in the life of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ukaryo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s when a new cell is 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s until the cell has divided into 2 new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spend most of their time in this 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functioning (metaboli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gro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hase has 3 parts: G1, S, G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G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1 = growth phase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wth and metabo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tic material is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envelope prevents seeing nuclear cont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olus is vi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 = syn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NA is replicated (doubl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elles are duplic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osomes are for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 of a chromos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omatid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fore cell division, each chromosome is replicated creating identical “sister” chromati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ch pair of chromatids is attached at an area called the centrom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358128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00800" y="44956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34120" y="4723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181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2133720"/>
            <a:ext cx="838440" cy="3886200"/>
          </a:xfrm>
          <a:custGeom>
            <a:avLst/>
            <a:gdLst>
              <a:gd name="textAreaLeft" fmla="*/ 0 w 838440"/>
              <a:gd name="textAreaRight" fmla="*/ 302760 w 83844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1981080"/>
            <a:ext cx="457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G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2 = growth phase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er growth and metabo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s for cell division are occur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Still of G2 Phase of Interphase"/>
          <p:cNvPicPr/>
          <p:nvPr/>
        </p:nvPicPr>
        <p:blipFill>
          <a:blip r:embed="rId2"/>
          <a:stretch/>
        </p:blipFill>
        <p:spPr>
          <a:xfrm>
            <a:off x="4419720" y="18288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Mitosi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membrane and nucleolus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ioles produce spindle fibers and move toward th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atids become visible and move toward the eq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attach to centrom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a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line up along the eq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firmly attached to centrom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 “middl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4:49:24Z</dcterms:created>
  <dc:creator>Oswego School District</dc:creator>
  <dc:description/>
  <dc:language>en-US</dc:language>
  <cp:lastModifiedBy>SGANSK</cp:lastModifiedBy>
  <cp:lastPrinted>2006-11-09T13:23:35Z</cp:lastPrinted>
  <dcterms:modified xsi:type="dcterms:W3CDTF">2009-06-24T14:42:23Z</dcterms:modified>
  <cp:revision>22</cp:revision>
  <dc:subject/>
  <dc:title>The Cell Cycle Mitosis</dc:title>
</cp:coreProperties>
</file>